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14.pct" ContentType="image/x-pict"/>
  <Override PartName="/ppt/media/image3.jpeg" ContentType="image/jpeg"/>
  <Override PartName="/ppt/media/image2.png" ContentType="image/png"/>
  <Override PartName="/ppt/media/image4.png" ContentType="image/png"/>
  <Override PartName="/ppt/media/image13.jpeg" ContentType="image/jpeg"/>
  <Override PartName="/ppt/media/image6.pct" ContentType="image/x-pict"/>
  <Override PartName="/ppt/media/image9.png" ContentType="image/png"/>
  <Override PartName="/ppt/media/image7.pct" ContentType="image/x-pict"/>
  <Override PartName="/ppt/media/image1.png" ContentType="image/png"/>
  <Override PartName="/ppt/media/image12.pct" ContentType="image/x-pict"/>
  <Override PartName="/ppt/media/image10.jpeg" ContentType="image/jpeg"/>
  <Override PartName="/ppt/media/image5.png" ContentType="image/png"/>
  <Override PartName="/ppt/media/image8.pct" ContentType="image/x-pi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12D6-9C34-4477-B4C6-110187BC3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0A3A-A184-4F4A-930C-35C6476BF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72CD-C18B-4D0E-B4C4-7D7E6DBD8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B44D-2567-4BB3-86C4-007D03F84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052A-3C74-4D1F-8D80-99C6EE460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1130-910F-4EFD-BF37-760177CFC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29CC-906D-452D-836D-159B64B49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384C-BA1F-4CC8-9EB4-C1DCC9F21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0911-D144-471A-A5E2-98BF249C9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1EE0-11D5-482A-B6B2-F3303836C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2093-FEC1-43BE-8851-AF81D65DF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0911-B443-4BD5-983B-FFEE003B4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A4EE9-F36E-4955-985A-EA5B04B9F4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ct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pct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pct"/><Relationship Id="rId7" Type="http://schemas.openxmlformats.org/officeDocument/2006/relationships/image" Target="../media/image13.jpeg"/><Relationship Id="rId8" Type="http://schemas.openxmlformats.org/officeDocument/2006/relationships/image" Target="../media/image14.pct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029120" y="2889360"/>
            <a:ext cx="1085760" cy="108576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4029120" y="2886120"/>
            <a:ext cx="1085760" cy="10857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2971800" y="0"/>
            <a:ext cx="6170760" cy="9144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8153280" y="5916600"/>
            <a:ext cx="990720" cy="9414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722760" y="1614600"/>
            <a:ext cx="45608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alNex 20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oulder Planning Me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267080" y="2666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0" y="2971800"/>
            <a:ext cx="313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7160" indent="-227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Toda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Welc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Aim of the Me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647600" y="5119560"/>
            <a:ext cx="32806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 Narrow"/>
              </a:rPr>
              <a:t>Fred Fehsenf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 Narrow"/>
              </a:rPr>
              <a:t>Tropospheric Chemistry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 Narrow"/>
              </a:rPr>
              <a:t>Chemical Science Divi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07800" y="6097680"/>
            <a:ext cx="1216080" cy="608040"/>
            <a:chOff x="307800" y="6097680"/>
            <a:chExt cx="1216080" cy="608040"/>
          </a:xfrm>
        </p:grpSpPr>
        <p:sp>
          <p:nvSpPr>
            <p:cNvPr id="51" name=""/>
            <p:cNvSpPr/>
            <p:nvPr/>
          </p:nvSpPr>
          <p:spPr>
            <a:xfrm>
              <a:off x="307800" y="6097680"/>
              <a:ext cx="1216080" cy="6080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" name="" descr=""/>
            <p:cNvPicPr/>
            <p:nvPr/>
          </p:nvPicPr>
          <p:blipFill>
            <a:blip r:embed="rId6"/>
            <a:stretch/>
          </p:blipFill>
          <p:spPr>
            <a:xfrm>
              <a:off x="348120" y="6118920"/>
              <a:ext cx="1155240" cy="565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7ff"/>
            </a:gs>
            <a:gs pos="50000">
              <a:srgbClr val="f9caff"/>
            </a:gs>
            <a:gs pos="100000">
              <a:srgbClr val="a1a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7619760" cy="51940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738080" y="5729400"/>
            <a:ext cx="5664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Welcome to Bould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7ff"/>
            </a:gs>
            <a:gs pos="50000">
              <a:srgbClr val="f9caff"/>
            </a:gs>
            <a:gs pos="100000">
              <a:srgbClr val="a1a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5067360" y="3348000"/>
            <a:ext cx="3848040" cy="3433680"/>
            <a:chOff x="5067360" y="3348000"/>
            <a:chExt cx="3848040" cy="3433680"/>
          </a:xfrm>
        </p:grpSpPr>
        <p:sp>
          <p:nvSpPr>
            <p:cNvPr id="56" name=""/>
            <p:cNvSpPr/>
            <p:nvPr/>
          </p:nvSpPr>
          <p:spPr>
            <a:xfrm>
              <a:off x="5067360" y="3348000"/>
              <a:ext cx="3848040" cy="3433680"/>
            </a:xfrm>
            <a:prstGeom prst="rect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601"/>
                </a:spcBef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Science to Support Decisio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57" name=""/>
            <p:cNvGraphicFramePr/>
            <p:nvPr/>
          </p:nvGraphicFramePr>
          <p:xfrm>
            <a:off x="5227560" y="3680640"/>
            <a:ext cx="3555000" cy="286596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5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227560" y="3680640"/>
                      <a:ext cx="3555000" cy="2865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59" name=""/>
          <p:cNvGrpSpPr/>
          <p:nvPr/>
        </p:nvGrpSpPr>
        <p:grpSpPr>
          <a:xfrm>
            <a:off x="380880" y="568440"/>
            <a:ext cx="4388040" cy="4232160"/>
            <a:chOff x="380880" y="568440"/>
            <a:chExt cx="4388040" cy="4232160"/>
          </a:xfrm>
        </p:grpSpPr>
        <p:sp>
          <p:nvSpPr>
            <p:cNvPr id="60" name=""/>
            <p:cNvSpPr/>
            <p:nvPr/>
          </p:nvSpPr>
          <p:spPr>
            <a:xfrm>
              <a:off x="380880" y="568440"/>
              <a:ext cx="4388040" cy="423216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" name="" descr=""/>
            <p:cNvPicPr/>
            <p:nvPr/>
          </p:nvPicPr>
          <p:blipFill>
            <a:blip r:embed="rId3"/>
            <a:stretch/>
          </p:blipFill>
          <p:spPr>
            <a:xfrm>
              <a:off x="436680" y="597600"/>
              <a:ext cx="4295160" cy="4160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2" name=""/>
          <p:cNvGrpSpPr/>
          <p:nvPr/>
        </p:nvGrpSpPr>
        <p:grpSpPr>
          <a:xfrm>
            <a:off x="1096920" y="3276720"/>
            <a:ext cx="3200400" cy="3200400"/>
            <a:chOff x="1096920" y="3276720"/>
            <a:chExt cx="3200400" cy="3200400"/>
          </a:xfrm>
        </p:grpSpPr>
        <p:sp>
          <p:nvSpPr>
            <p:cNvPr id="63" name=""/>
            <p:cNvSpPr/>
            <p:nvPr/>
          </p:nvSpPr>
          <p:spPr>
            <a:xfrm>
              <a:off x="1096920" y="3276720"/>
              <a:ext cx="3200400" cy="32004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4"/>
            <a:stretch/>
          </p:blipFill>
          <p:spPr>
            <a:xfrm>
              <a:off x="1172880" y="3353040"/>
              <a:ext cx="3048120" cy="3048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5" name=""/>
          <p:cNvGrpSpPr/>
          <p:nvPr/>
        </p:nvGrpSpPr>
        <p:grpSpPr>
          <a:xfrm>
            <a:off x="457200" y="3013200"/>
            <a:ext cx="4724280" cy="3700440"/>
            <a:chOff x="457200" y="3013200"/>
            <a:chExt cx="4724280" cy="3700440"/>
          </a:xfrm>
        </p:grpSpPr>
        <p:grpSp>
          <p:nvGrpSpPr>
            <p:cNvPr id="66" name=""/>
            <p:cNvGrpSpPr/>
            <p:nvPr/>
          </p:nvGrpSpPr>
          <p:grpSpPr>
            <a:xfrm>
              <a:off x="457200" y="3013200"/>
              <a:ext cx="1806480" cy="1236600"/>
              <a:chOff x="457200" y="3013200"/>
              <a:chExt cx="1806480" cy="1236600"/>
            </a:xfrm>
          </p:grpSpPr>
          <p:pic>
            <p:nvPicPr>
              <p:cNvPr id="67" name="" descr=""/>
              <p:cNvPicPr/>
              <p:nvPr/>
            </p:nvPicPr>
            <p:blipFill>
              <a:blip r:embed="rId5">
                <a:lum bright="22000"/>
              </a:blip>
              <a:srcRect l="0" t="0" r="0" b="6000"/>
              <a:stretch/>
            </p:blipFill>
            <p:spPr>
              <a:xfrm>
                <a:off x="488880" y="3054240"/>
                <a:ext cx="1747800" cy="1166760"/>
              </a:xfrm>
              <a:prstGeom prst="rect">
                <a:avLst/>
              </a:prstGeom>
              <a:ln w="19080">
                <a:solidFill>
                  <a:srgbClr val="969696"/>
                </a:solidFill>
                <a:miter/>
              </a:ln>
            </p:spPr>
          </p:pic>
          <p:sp>
            <p:nvSpPr>
              <p:cNvPr id="68" name=""/>
              <p:cNvSpPr/>
              <p:nvPr/>
            </p:nvSpPr>
            <p:spPr>
              <a:xfrm>
                <a:off x="457200" y="3013200"/>
                <a:ext cx="1806480" cy="12366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" name=""/>
            <p:cNvGrpSpPr/>
            <p:nvPr/>
          </p:nvGrpSpPr>
          <p:grpSpPr>
            <a:xfrm>
              <a:off x="1554120" y="5762520"/>
              <a:ext cx="2181240" cy="951120"/>
              <a:chOff x="1554120" y="5762520"/>
              <a:chExt cx="2181240" cy="951120"/>
            </a:xfrm>
          </p:grpSpPr>
          <p:pic>
            <p:nvPicPr>
              <p:cNvPr id="70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1554120" y="5769000"/>
                <a:ext cx="2181240" cy="936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" name=""/>
              <p:cNvSpPr/>
              <p:nvPr/>
            </p:nvSpPr>
            <p:spPr>
              <a:xfrm>
                <a:off x="1555560" y="5762520"/>
                <a:ext cx="2179800" cy="95112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" name=""/>
            <p:cNvGrpSpPr/>
            <p:nvPr/>
          </p:nvGrpSpPr>
          <p:grpSpPr>
            <a:xfrm>
              <a:off x="3189240" y="3014640"/>
              <a:ext cx="1992240" cy="1328760"/>
              <a:chOff x="3189240" y="3014640"/>
              <a:chExt cx="1992240" cy="1328760"/>
            </a:xfrm>
          </p:grpSpPr>
          <p:pic>
            <p:nvPicPr>
              <p:cNvPr id="73" name="" descr=""/>
              <p:cNvPicPr/>
              <p:nvPr/>
            </p:nvPicPr>
            <p:blipFill>
              <a:blip r:embed="rId7"/>
              <a:srcRect l="0" t="9008" r="0" b="0"/>
              <a:stretch/>
            </p:blipFill>
            <p:spPr>
              <a:xfrm>
                <a:off x="3220920" y="3049560"/>
                <a:ext cx="1946520" cy="1293840"/>
              </a:xfrm>
              <a:prstGeom prst="rect">
                <a:avLst/>
              </a:prstGeom>
              <a:ln w="19080">
                <a:solidFill>
                  <a:srgbClr val="969696"/>
                </a:solidFill>
                <a:miter/>
              </a:ln>
            </p:spPr>
          </p:pic>
          <p:sp>
            <p:nvSpPr>
              <p:cNvPr id="74" name=""/>
              <p:cNvSpPr/>
              <p:nvPr/>
            </p:nvSpPr>
            <p:spPr>
              <a:xfrm>
                <a:off x="3189240" y="3014640"/>
                <a:ext cx="1992240" cy="132876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5" name=""/>
          <p:cNvGrpSpPr/>
          <p:nvPr/>
        </p:nvGrpSpPr>
        <p:grpSpPr>
          <a:xfrm>
            <a:off x="4957920" y="609480"/>
            <a:ext cx="4114800" cy="3429000"/>
            <a:chOff x="4957920" y="609480"/>
            <a:chExt cx="4114800" cy="3429000"/>
          </a:xfrm>
        </p:grpSpPr>
        <p:grpSp>
          <p:nvGrpSpPr>
            <p:cNvPr id="76" name=""/>
            <p:cNvGrpSpPr/>
            <p:nvPr/>
          </p:nvGrpSpPr>
          <p:grpSpPr>
            <a:xfrm>
              <a:off x="4957920" y="609480"/>
              <a:ext cx="4114800" cy="3429000"/>
              <a:chOff x="4957920" y="609480"/>
              <a:chExt cx="4114800" cy="3429000"/>
            </a:xfrm>
          </p:grpSpPr>
          <p:sp>
            <p:nvSpPr>
              <p:cNvPr id="77" name=""/>
              <p:cNvSpPr/>
              <p:nvPr/>
            </p:nvSpPr>
            <p:spPr>
              <a:xfrm>
                <a:off x="4957920" y="609480"/>
                <a:ext cx="4114800" cy="34290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" name=""/>
              <p:cNvGrpSpPr/>
              <p:nvPr/>
            </p:nvGrpSpPr>
            <p:grpSpPr>
              <a:xfrm>
                <a:off x="5262840" y="838080"/>
                <a:ext cx="3519360" cy="3043080"/>
                <a:chOff x="5262840" y="838080"/>
                <a:chExt cx="3519360" cy="3043080"/>
              </a:xfrm>
            </p:grpSpPr>
            <p:pic>
              <p:nvPicPr>
                <p:cNvPr id="79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5262840" y="838080"/>
                  <a:ext cx="3519360" cy="3043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0" name=""/>
                <p:cNvSpPr/>
                <p:nvPr/>
              </p:nvSpPr>
              <p:spPr>
                <a:xfrm>
                  <a:off x="6908760" y="869760"/>
                  <a:ext cx="179280" cy="1789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6912000" y="1101240"/>
                  <a:ext cx="180720" cy="180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6910560" y="2020680"/>
                  <a:ext cx="178920" cy="1803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6912000" y="1560240"/>
                  <a:ext cx="180720" cy="1803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6912000" y="1331640"/>
                  <a:ext cx="180720" cy="1803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6915240" y="1793520"/>
                  <a:ext cx="178920" cy="1789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" name=""/>
              <p:cNvSpPr/>
              <p:nvPr/>
            </p:nvSpPr>
            <p:spPr>
              <a:xfrm>
                <a:off x="8298000" y="2711160"/>
                <a:ext cx="235080" cy="23184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436080" y="2479680"/>
                <a:ext cx="234720" cy="23148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" name=""/>
            <p:cNvSpPr/>
            <p:nvPr/>
          </p:nvSpPr>
          <p:spPr>
            <a:xfrm>
              <a:off x="7839000" y="2666880"/>
              <a:ext cx="216000" cy="304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694440" y="74520"/>
            <a:ext cx="814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im of This Meeting: Setting the Stage for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5450040" y="1042920"/>
            <a:ext cx="3372840" cy="2859840"/>
            <a:chOff x="5450040" y="1042920"/>
            <a:chExt cx="3372840" cy="2859840"/>
          </a:xfrm>
        </p:grpSpPr>
        <p:grpSp>
          <p:nvGrpSpPr>
            <p:cNvPr id="91" name=""/>
            <p:cNvGrpSpPr/>
            <p:nvPr/>
          </p:nvGrpSpPr>
          <p:grpSpPr>
            <a:xfrm>
              <a:off x="8017200" y="2685960"/>
              <a:ext cx="550800" cy="307080"/>
              <a:chOff x="8017200" y="2685960"/>
              <a:chExt cx="550800" cy="307080"/>
            </a:xfrm>
          </p:grpSpPr>
          <p:sp>
            <p:nvSpPr>
              <p:cNvPr id="92" name=""/>
              <p:cNvSpPr/>
              <p:nvPr/>
            </p:nvSpPr>
            <p:spPr>
              <a:xfrm>
                <a:off x="8248680" y="2685960"/>
                <a:ext cx="319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8017200" y="268596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" name=""/>
            <p:cNvGrpSpPr/>
            <p:nvPr/>
          </p:nvGrpSpPr>
          <p:grpSpPr>
            <a:xfrm>
              <a:off x="7554960" y="1042920"/>
              <a:ext cx="324720" cy="767520"/>
              <a:chOff x="7554960" y="1042920"/>
              <a:chExt cx="324720" cy="767520"/>
            </a:xfrm>
          </p:grpSpPr>
          <p:sp>
            <p:nvSpPr>
              <p:cNvPr id="95" name=""/>
              <p:cNvSpPr/>
              <p:nvPr/>
            </p:nvSpPr>
            <p:spPr>
              <a:xfrm>
                <a:off x="7561080" y="12715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570800" y="10429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554960" y="150336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" name=""/>
            <p:cNvGrpSpPr/>
            <p:nvPr/>
          </p:nvGrpSpPr>
          <p:grpSpPr>
            <a:xfrm>
              <a:off x="8479080" y="1743120"/>
              <a:ext cx="343800" cy="2159640"/>
              <a:chOff x="8479080" y="1743120"/>
              <a:chExt cx="343800" cy="2159640"/>
            </a:xfrm>
          </p:grpSpPr>
          <p:sp>
            <p:nvSpPr>
              <p:cNvPr id="99" name=""/>
              <p:cNvSpPr/>
              <p:nvPr/>
            </p:nvSpPr>
            <p:spPr>
              <a:xfrm>
                <a:off x="8514000" y="35956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479080" y="22050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499600" y="1976400"/>
                <a:ext cx="289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488800" y="174312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8494560" y="2436840"/>
                <a:ext cx="289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494920" y="267804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485200" y="2913120"/>
                <a:ext cx="319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505720" y="3133800"/>
                <a:ext cx="289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8496720" y="337356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"/>
            <p:cNvGrpSpPr/>
            <p:nvPr/>
          </p:nvGrpSpPr>
          <p:grpSpPr>
            <a:xfrm>
              <a:off x="5454720" y="1741320"/>
              <a:ext cx="2417040" cy="1011960"/>
              <a:chOff x="5454720" y="1741320"/>
              <a:chExt cx="2417040" cy="1011960"/>
            </a:xfrm>
          </p:grpSpPr>
          <p:grpSp>
            <p:nvGrpSpPr>
              <p:cNvPr id="109" name=""/>
              <p:cNvGrpSpPr/>
              <p:nvPr/>
            </p:nvGrpSpPr>
            <p:grpSpPr>
              <a:xfrm>
                <a:off x="6859800" y="1741320"/>
                <a:ext cx="1011960" cy="313560"/>
                <a:chOff x="6859800" y="1741320"/>
                <a:chExt cx="1011960" cy="31356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6859800" y="1747800"/>
                  <a:ext cx="308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7090560" y="1741320"/>
                  <a:ext cx="3193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7562880" y="1744560"/>
                  <a:ext cx="308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329240" y="1744560"/>
                  <a:ext cx="308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4" name=""/>
              <p:cNvGrpSpPr/>
              <p:nvPr/>
            </p:nvGrpSpPr>
            <p:grpSpPr>
              <a:xfrm>
                <a:off x="5454720" y="2436840"/>
                <a:ext cx="1240920" cy="316440"/>
                <a:chOff x="5454720" y="2436840"/>
                <a:chExt cx="1240920" cy="316440"/>
              </a:xfrm>
            </p:grpSpPr>
            <p:sp>
              <p:nvSpPr>
                <p:cNvPr id="115" name=""/>
                <p:cNvSpPr/>
                <p:nvPr/>
              </p:nvSpPr>
              <p:spPr>
                <a:xfrm>
                  <a:off x="5454720" y="2438280"/>
                  <a:ext cx="308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5725440" y="2436840"/>
                  <a:ext cx="231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5924520" y="2440080"/>
                  <a:ext cx="308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R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6148440" y="2438280"/>
                  <a:ext cx="2995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E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6396120" y="2446200"/>
                  <a:ext cx="2995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"/>
            <p:cNvGrpSpPr/>
            <p:nvPr/>
          </p:nvGrpSpPr>
          <p:grpSpPr>
            <a:xfrm>
              <a:off x="5450040" y="2678040"/>
              <a:ext cx="310320" cy="1223280"/>
              <a:chOff x="5450040" y="2678040"/>
              <a:chExt cx="310320" cy="1223280"/>
            </a:xfrm>
          </p:grpSpPr>
          <p:sp>
            <p:nvSpPr>
              <p:cNvPr id="121" name=""/>
              <p:cNvSpPr/>
              <p:nvPr/>
            </p:nvSpPr>
            <p:spPr>
              <a:xfrm>
                <a:off x="5466960" y="2919240"/>
                <a:ext cx="289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451480" y="267804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5450040" y="334656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500080" y="3594240"/>
                <a:ext cx="231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451480" y="31273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" name=""/>
            <p:cNvGrpSpPr/>
            <p:nvPr/>
          </p:nvGrpSpPr>
          <p:grpSpPr>
            <a:xfrm>
              <a:off x="5929560" y="1287360"/>
              <a:ext cx="318240" cy="997920"/>
              <a:chOff x="5929560" y="1287360"/>
              <a:chExt cx="318240" cy="997920"/>
            </a:xfrm>
          </p:grpSpPr>
          <p:sp>
            <p:nvSpPr>
              <p:cNvPr id="127" name=""/>
              <p:cNvSpPr/>
              <p:nvPr/>
            </p:nvSpPr>
            <p:spPr>
              <a:xfrm>
                <a:off x="5938920" y="19782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929560" y="128736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932800" y="151596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5929560" y="17413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2T02:38:45Z</dcterms:created>
  <dc:creator>Fred Fehsenfeld</dc:creator>
  <dc:description/>
  <dc:language>en-US</dc:language>
  <cp:lastModifiedBy>Fred Fehsenfeld</cp:lastModifiedBy>
  <dcterms:modified xsi:type="dcterms:W3CDTF">2009-01-05T05:40:52Z</dcterms:modified>
  <cp:revision>16</cp:revision>
  <dc:subject/>
  <dc:title>PowerPoint Presentation</dc:title>
</cp:coreProperties>
</file>